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6400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6146280"/>
            <a:ext cx="6400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576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614628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965760" y="614628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49760" y="586800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14080" y="586800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614628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849760" y="614628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014080" y="614628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5868000"/>
            <a:ext cx="64008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640080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312336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965760" y="5868000"/>
            <a:ext cx="312336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809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65760" y="5868000"/>
            <a:ext cx="312336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614628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5868000"/>
            <a:ext cx="64008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312336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6576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65760" y="614628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6576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6146280"/>
            <a:ext cx="6400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6400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6146280"/>
            <a:ext cx="6400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576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614628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965760" y="614628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49760" y="586800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080" y="586800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614628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849760" y="614628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014080" y="6146280"/>
            <a:ext cx="20606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640080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312336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965760" y="5868000"/>
            <a:ext cx="312336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9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5868000"/>
            <a:ext cx="312336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614628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312336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576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5760" y="614628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5760" y="5868000"/>
            <a:ext cx="3123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6146280"/>
            <a:ext cx="6400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287a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5000"/>
              </a:lnSpc>
              <a:spcBef>
                <a:spcPts val="2001"/>
              </a:spcBef>
              <a:buClr>
                <a:srgbClr val="008c9a"/>
              </a:buClr>
              <a:buSzPct val="11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5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76040">
              <a:lnSpc>
                <a:spcPct val="95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lnSpc>
                <a:spcPct val="95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6480" indent="-176040">
              <a:lnSpc>
                <a:spcPct val="95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6480" indent="-176040">
              <a:lnSpc>
                <a:spcPct val="95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6480" indent="-176040">
              <a:lnSpc>
                <a:spcPct val="95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Mapping Existing Globals to Objects and SQL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5302440"/>
            <a:ext cx="6400800" cy="10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ike LaRocc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terSystems Corporatio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1520" y="1908000"/>
            <a:ext cx="8915400" cy="331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Persistent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properties to your new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out which property (or properties) will be your unique identifier (IDKey / Primary Key) for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storage strategy, mapping your class properties to your glob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36720" y="89532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acheSQLStorage Mapping –</a:t>
            </a:r>
            <a:br>
              <a:rPr sz="4400"/>
            </a:b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A Bird’s Eye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6000" y="2321640"/>
            <a:ext cx="8665920" cy="21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eSQLStorage maps are typically crea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mer / database desig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-DBMS convers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-SQL convers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36720" y="43812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acheSQLStorage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320" y="1658160"/>
            <a:ext cx="892800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ll global structures can be easily mapped for full Read/Write/Delet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able mappings of legacy global structures are for SELECT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ull update access is also required, some additional work outside of the “typical” mapping requirements might be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680" y="539640"/>
            <a:ext cx="86742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What Type of SQL Access is Allow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320" y="1767240"/>
            <a:ext cx="8928000" cy="330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eSQLStorage maps come in a few flav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(aka MasterMap):  All fields must be represen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:  A subset of fields are represen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(default):  All data is populated within th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:  Data is populated only if a condition is satis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null:  Null values are not populated within th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36720" y="43812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Map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1520" y="2448000"/>
            <a:ext cx="8915400" cy="22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Key indexes declare the unique identifier for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 indexes declare the unique identifier for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Keys and Primary Keys are typically based on the same field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1520" y="590400"/>
            <a:ext cx="85532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Mapping Concepts:  ID / Primary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1520" y="2062800"/>
            <a:ext cx="8915400" cy="301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 subscripts are typically equivalent to global sub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ubscript access suppor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:  Based on a “standard” global su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ce:  Based on a certain position, using a delim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:  Based on data stored in multiple glob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:  Based on user-writte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Mapping Concepts:  Subscri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1520" y="1569240"/>
            <a:ext cx="8915400" cy="489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’s a close relationship between the IDKey and the RowID for data maps, but not necessarily for index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owID is used to uniquely identify data in a global, based on the subscripts defined in the map defi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if our global structure was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Person(PersonID,“Cars”,CarID)=“Make^Model^Yea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ould have 2 fields in our Row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ID:  Stored in level 1 of the global, or {L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ID:  Stored in level 3 of the global, or {L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Mapping Concepts:  Row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1520" y="2235600"/>
            <a:ext cx="8915400" cy="267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subscripts mappings are defined, the next step is to map fields to a specific location in the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subscript nodes (literals only) can be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an be positioned within a string according to a given delimiter or lis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Mapping Concepts:  Data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1520" y="1697040"/>
            <a:ext cx="8915400" cy="457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 Name:  Must begin with a letter, proceeded by alpha-nume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 Type:  Data or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Name:  Name of global with ^ in front, or local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 Structure:  $Piece (typical) or $List (introduced in Caché 2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Type:  Define how the map will be 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%:  Estimate percentage of number of rows in this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:  Expression which defines the condition, such as {Name}‘=“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 Fields:  Field(s) on which the condition is 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 with hostvars:  Boolean which influences cached queries’ use of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 Reference:  Allows programmers to override the generated Row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Map Editor: 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560" y="1541520"/>
            <a:ext cx="9016920" cy="503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ype:  Sub, Piece, Global, or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miter:  Only used if Access Type is 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:  Typically the {field}, “string” or numeric literal, or delimited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Init Value:  Non-inclusive value used in generated travers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Value:  Inclusive value used in generated travers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 Value:  Literal value at which traversal code should 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 Expression:  Expression used to terminate traversal code, such as {L1}&gt;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ccess:  Override the context of the current access-level’s value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Code:  Used by programmers to override generated travers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Conditions:  Expression used to filter rows out of the map, such as {L1}&lt;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Variables:  Variables used by programmer, guaranteed to have unique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Subscript Editor: 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287a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1135080" y="2501280"/>
            <a:ext cx="6723000" cy="89604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6240" y="1482480"/>
            <a:ext cx="6723000" cy="9450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orage Strategy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6240" y="3468240"/>
            <a:ext cx="6723000" cy="8960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QL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39760" y="4425840"/>
            <a:ext cx="6723000" cy="945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ustom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1725480"/>
            <a:ext cx="672840" cy="54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35080" y="5435280"/>
            <a:ext cx="6723000" cy="8960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QLStorag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1520" y="1802160"/>
            <a:ext cx="8915400" cy="141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ID:  Position a field has within the full RowID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:  Name of the field that makes up this part of the Row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:  The level within the subscript definition, such as {L2} or {L6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RowID Editor: 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1520" y="1903320"/>
            <a:ext cx="8915400" cy="166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:  Name of the field being mapped on the right-side of = 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:  An additional subscript (literal only) where this field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ce:  Position in the string using the supplied delim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miter:  Specifies which delimiter to use, such as “^” or $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ata Editor: 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287a"/>
              </a:solidFill>
              <a:latin typeface="Arial Narrow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3680" y="2666880"/>
            <a:ext cx="676440" cy="551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17440" y="1631880"/>
            <a:ext cx="676440" cy="550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89000" y="3649680"/>
            <a:ext cx="676080" cy="550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35080" y="2501280"/>
            <a:ext cx="6723000" cy="89604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6240" y="1482480"/>
            <a:ext cx="6723000" cy="9450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orage Strategy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6240" y="3468240"/>
            <a:ext cx="6723000" cy="8960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QL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39760" y="4425840"/>
            <a:ext cx="6723000" cy="945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ustom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5080" y="5435280"/>
            <a:ext cx="6723000" cy="8960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QLStorag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79280" y="4660920"/>
            <a:ext cx="6764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87400" y="3060720"/>
            <a:ext cx="5192640" cy="78912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ustomStorage Overview</a:t>
            </a:r>
            <a:endParaRPr b="1" lang="en-US" sz="4400" spc="-1" strike="noStrike">
              <a:solidFill>
                <a:srgbClr val="00287a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2560680" y="1787400"/>
            <a:ext cx="1874880" cy="68112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51400" y="3170160"/>
            <a:ext cx="22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3e42"/>
                </a:solidFill>
                <a:latin typeface="Arial Narrow"/>
              </a:rPr>
              <a:t>Object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02080" y="1832040"/>
            <a:ext cx="1782720" cy="5889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47880" y="3114720"/>
            <a:ext cx="1663560" cy="6588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%Load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54280" y="3121200"/>
            <a:ext cx="1663560" cy="658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%Save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62480" y="3114720"/>
            <a:ext cx="1663560" cy="6588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%Delete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87400" y="4140360"/>
            <a:ext cx="5192640" cy="78876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47880" y="4206960"/>
            <a:ext cx="1663560" cy="6588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54280" y="4200480"/>
            <a:ext cx="1663560" cy="662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62480" y="4206960"/>
            <a:ext cx="1663560" cy="6588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6880" y="4060800"/>
            <a:ext cx="235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3e42"/>
                </a:solidFill>
                <a:latin typeface="Arial Narrow"/>
              </a:rPr>
              <a:t>Cust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7" idx="2"/>
            <a:endCxn id="198" idx="0"/>
          </p:cNvCxnSpPr>
          <p:nvPr/>
        </p:nvCxnSpPr>
        <p:spPr>
          <a:xfrm rot="5400000">
            <a:off x="2289240" y="1910160"/>
            <a:ext cx="694440" cy="1715400"/>
          </a:xfrm>
          <a:prstGeom prst="bentConnector3">
            <a:avLst>
              <a:gd name="adj1" fmla="val 4984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7" idx="2"/>
            <a:endCxn id="200" idx="0"/>
          </p:cNvCxnSpPr>
          <p:nvPr/>
        </p:nvCxnSpPr>
        <p:spPr>
          <a:xfrm flipH="1" rot="16200000">
            <a:off x="3996360" y="1917360"/>
            <a:ext cx="694440" cy="1701000"/>
          </a:xfrm>
          <a:prstGeom prst="bentConnector3">
            <a:avLst>
              <a:gd name="adj1" fmla="val 4984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8" idx="2"/>
            <a:endCxn id="202" idx="0"/>
          </p:cNvCxnSpPr>
          <p:nvPr/>
        </p:nvCxnSpPr>
        <p:spPr>
          <a:xfrm>
            <a:off x="1779120" y="3773520"/>
            <a:ext cx="1080" cy="434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9" idx="2"/>
            <a:endCxn id="203" idx="0"/>
          </p:cNvCxnSpPr>
          <p:nvPr/>
        </p:nvCxnSpPr>
        <p:spPr>
          <a:xfrm>
            <a:off x="3485880" y="3780000"/>
            <a:ext cx="1080" cy="421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0" idx="2"/>
            <a:endCxn id="204" idx="0"/>
          </p:cNvCxnSpPr>
          <p:nvPr/>
        </p:nvCxnSpPr>
        <p:spPr>
          <a:xfrm>
            <a:off x="5194080" y="3773520"/>
            <a:ext cx="1080" cy="434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7" idx="2"/>
            <a:endCxn id="199" idx="0"/>
          </p:cNvCxnSpPr>
          <p:nvPr/>
        </p:nvCxnSpPr>
        <p:spPr>
          <a:xfrm flipH="1">
            <a:off x="3485880" y="2420640"/>
            <a:ext cx="8640" cy="7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552760" y="5622840"/>
            <a:ext cx="1874880" cy="68112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3800" y="5680080"/>
            <a:ext cx="1783080" cy="58896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lob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02" idx="2"/>
            <a:endCxn id="213" idx="0"/>
          </p:cNvCxnSpPr>
          <p:nvPr/>
        </p:nvCxnSpPr>
        <p:spPr>
          <a:xfrm flipH="1" rot="16200000">
            <a:off x="2224800" y="4419360"/>
            <a:ext cx="815040" cy="1707480"/>
          </a:xfrm>
          <a:prstGeom prst="bentConnector3">
            <a:avLst>
              <a:gd name="adj1" fmla="val 4988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4" idx="2"/>
            <a:endCxn id="213" idx="0"/>
          </p:cNvCxnSpPr>
          <p:nvPr/>
        </p:nvCxnSpPr>
        <p:spPr>
          <a:xfrm rot="5400000">
            <a:off x="3932280" y="4418640"/>
            <a:ext cx="815040" cy="1708920"/>
          </a:xfrm>
          <a:prstGeom prst="bentConnector3">
            <a:avLst>
              <a:gd name="adj1" fmla="val 4988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3" idx="2"/>
            <a:endCxn id="213" idx="0"/>
          </p:cNvCxnSpPr>
          <p:nvPr/>
        </p:nvCxnSpPr>
        <p:spPr>
          <a:xfrm>
            <a:off x="3485880" y="4862160"/>
            <a:ext cx="1080" cy="81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1520" y="1663200"/>
            <a:ext cx="8915400" cy="439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Persistent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properties to your new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out which property (or properties) will be your unique identifier (IDKey / Primary Key) for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storage strategy, mapping your class properties to your glob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the Object access code, namely:  %LoadData, %SaveData, %Delete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36720" y="89532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ustomStorage Mapping –</a:t>
            </a:r>
            <a:br>
              <a:rPr sz="4400"/>
            </a:b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A Bird’s Eye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1520" y="2289240"/>
            <a:ext cx="8915400" cy="256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use SQL with CustomStorage, you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 a special parameter within your cla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SQLENABLED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ping the SQL portion with CustomStorage is identical to the methods used for CacheSQL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ustomStorage and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1520" y="1673640"/>
            <a:ext cx="8915400" cy="379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use Objects with CustomStorage, you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%LoadData, %SaveData, %Delete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your code, you must man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IDs on disk and in memory (via the %IdSet() 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instance variables (property names with “i%” in fr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uniqu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key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ustomStorage and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1520" y="1450080"/>
            <a:ext cx="8915400" cy="424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implemented by %LoadData() will be executed each time an object is loaded, typically from %Open() and %OpenI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LoadData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%LoadData(id As %Library.String) As %Library.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t i%SSN =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t i%Name = $Piece(^P(id),“^”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t i%DOB = $Piece(^P(id),“^”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it $$$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%Load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1520" y="1508400"/>
            <a:ext cx="8915400" cy="504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implemented by %SaveData() will be executed each time an object is saved by calling the %Save()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SaveData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%SaveData(id As %Library.String) As %Library.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ck ^P(id):5 If '$Test Quit $$$ERROR($$$LockFailedToAcquireExclus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t id = i%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o ..%IdSet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t $Piece(^P(id),”^”,1) = i%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t $Piece(^P(id),”^”,2) = i%D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it $$$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%Save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1520" y="1548000"/>
            <a:ext cx="8915400" cy="40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implemented by %DeleteData will be executed each time an object is deleted, by calling %Delete() or %DeleteI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DeleteData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%DeleteData(id As %String, concurrency as %Integer) As %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ck ^P(id):5 If '$Test Quit $$$ERROR($$$LockFailedToAcquireExclus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Kill ^P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it $$$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%Delete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Storage Strategy Comparisons</a:t>
            </a:r>
            <a:endParaRPr b="1" lang="en-US" sz="4400" spc="-1" strike="noStrike">
              <a:solidFill>
                <a:srgbClr val="00287a"/>
              </a:solidFill>
              <a:latin typeface="Arial Narrow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63520" y="1981080"/>
          <a:ext cx="8626320" cy="1900440"/>
        </p:xfrm>
        <a:graphic>
          <a:graphicData uri="http://schemas.openxmlformats.org/drawingml/2006/table">
            <a:tbl>
              <a:tblPr/>
              <a:tblGrid>
                <a:gridCol w="1587600"/>
                <a:gridCol w="2346120"/>
                <a:gridCol w="2346480"/>
                <a:gridCol w="2346120"/>
              </a:tblGrid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cheSto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cheSQLSto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ustomSto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Q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f3e42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f3e42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bj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f3e42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949320" y="4305240"/>
            <a:ext cx="72658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Wingdings 2"/>
                <a:ea typeface="Wingdings 2"/>
              </a:rPr>
              <a:t></a:t>
            </a:r>
            <a:r>
              <a:rPr b="0" lang="en-US" sz="32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utomatically provided by Cach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3e42"/>
                </a:solidFill>
                <a:latin typeface="Wingdings 2"/>
                <a:ea typeface="Wingdings 2"/>
              </a:rPr>
              <a:t></a:t>
            </a:r>
            <a:r>
              <a:rPr b="0" lang="en-US" sz="3200" spc="-1" strike="noStrike">
                <a:solidFill>
                  <a:srgbClr val="ef3e42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nually provided by database desi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287a"/>
              </a:solidFill>
              <a:latin typeface="Arial Narrow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3680" y="2666880"/>
            <a:ext cx="676440" cy="551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7440" y="1631880"/>
            <a:ext cx="676440" cy="550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89000" y="3649680"/>
            <a:ext cx="676080" cy="550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135080" y="2501280"/>
            <a:ext cx="6723000" cy="89604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6240" y="1482480"/>
            <a:ext cx="6723000" cy="9450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orage Strategy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6240" y="3468240"/>
            <a:ext cx="6723000" cy="8960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QL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39760" y="4425840"/>
            <a:ext cx="6723000" cy="945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ustom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35080" y="5435280"/>
            <a:ext cx="6723000" cy="8960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QLStorag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79280" y="4660920"/>
            <a:ext cx="676440" cy="550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196920" y="5619600"/>
            <a:ext cx="67608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32040" y="2927520"/>
            <a:ext cx="1874880" cy="68076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74880" y="2973240"/>
            <a:ext cx="1782720" cy="586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hon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6880" y="2922480"/>
            <a:ext cx="1874880" cy="68112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19720" y="2968560"/>
            <a:ext cx="1782720" cy="5857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octor Vi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Example Data Model</a:t>
            </a:r>
            <a:endParaRPr b="1" lang="en-US" sz="4400" spc="-1" strike="noStrike">
              <a:solidFill>
                <a:srgbClr val="00287a"/>
              </a:solidFill>
              <a:latin typeface="Arial Narrow"/>
            </a:endParaRPr>
          </a:p>
        </p:txBody>
      </p:sp>
      <p:sp>
        <p:nvSpPr>
          <p:cNvPr id="245" name=""/>
          <p:cNvSpPr/>
          <p:nvPr/>
        </p:nvSpPr>
        <p:spPr>
          <a:xfrm>
            <a:off x="3551400" y="1596960"/>
            <a:ext cx="1874520" cy="89856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92440" y="1641600"/>
            <a:ext cx="1782720" cy="8175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t" anchorCtr="1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6" idx="2"/>
            <a:endCxn id="241" idx="0"/>
          </p:cNvCxnSpPr>
          <p:nvPr/>
        </p:nvCxnSpPr>
        <p:spPr>
          <a:xfrm rot="5400000">
            <a:off x="3368160" y="1857240"/>
            <a:ext cx="514440" cy="17182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6" idx="2"/>
            <a:endCxn id="243" idx="0"/>
          </p:cNvCxnSpPr>
          <p:nvPr/>
        </p:nvCxnSpPr>
        <p:spPr>
          <a:xfrm flipH="1" rot="16200000">
            <a:off x="5093280" y="1849680"/>
            <a:ext cx="510120" cy="1728000"/>
          </a:xfrm>
          <a:prstGeom prst="bentConnector3">
            <a:avLst>
              <a:gd name="adj1" fmla="val 49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2771640" y="2760840"/>
            <a:ext cx="0" cy="10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07120" y="2766960"/>
            <a:ext cx="0" cy="1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3771000"/>
            <a:ext cx="8666280" cy="19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arent-Children relationships ex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tient can have many phon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tient can have many doctor vi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a patient should delete all related phone numbers &amp; vi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57680" y="2050920"/>
            <a:ext cx="1469880" cy="32256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93960" bIns="9396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60440" y="1628640"/>
            <a:ext cx="8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01520" y="1782720"/>
            <a:ext cx="8915400" cy="157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P(SSN) = “Name^DOB^Phone1~Phone2~...~PhoneN^Compan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P(SSN,“Address”) = “City^PostalCode^Countr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P(SSN,“Visits”,VisitDate,VisitTime) = “Symptom^Pay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Example Data Glob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1520" y="3754800"/>
            <a:ext cx="8915400" cy="178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P(“211-22-1222”) = “Smith,John^39873^718-317-3312~917-225-2213^AT&amp;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P(“211-22-1222”,“Address”) = “New York^10312^US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P(“211-22-1222”,“Visits”,58809,43200) = “Cough^15.0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P(“211-22-1222”,“Visits”,58820,57900) = “Sore Throat^50.0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1520" y="2338560"/>
            <a:ext cx="89154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PI(Name,SSN) = “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Example Index Glob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1520" y="3429360"/>
            <a:ext cx="89154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PI(“Smith,John”,“211-22-1222”) = “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a Persistent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69840" y="1544760"/>
            <a:ext cx="69199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Add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06520" y="1515960"/>
            <a:ext cx="81421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hoose a Unique Ident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12640" y="1531800"/>
            <a:ext cx="8013960" cy="42516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820880" y="6014160"/>
            <a:ext cx="5408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identifier will be based on 1 field:  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clare an ID / Primary Ke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39760" y="5513760"/>
            <a:ext cx="6116760" cy="86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this index on the SSN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modify the index co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406520" y="1595520"/>
            <a:ext cx="55609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a Storag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165320" y="1487520"/>
            <a:ext cx="58500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a Data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70040" y="1476360"/>
            <a:ext cx="7057800" cy="4281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409840" y="5936040"/>
            <a:ext cx="36129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names cannot have sp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6000" y="1650240"/>
            <a:ext cx="866592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eStorage is ideal for brand new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eSQLStorage is typically used where existing global structures can be expressed relationally, and Object access can be code-generated based on SQL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torage is used when existing global structures can or cannot be expressed relationally, and complex logic must be used to provide Objec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3812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hoosing Your Storage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fine the Global Subscri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20840" y="5960160"/>
            <a:ext cx="40957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level 1 is based on 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20800" y="1463760"/>
            <a:ext cx="70959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fine the Row 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2400" y="5937840"/>
            <a:ext cx="61164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ID 1 is based on SSN in subscript leve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087560" y="1565280"/>
            <a:ext cx="65624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fine the Property Mapp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23960" y="6010920"/>
            <a:ext cx="5419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delimiter and additional nod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52320" y="1474920"/>
            <a:ext cx="71773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an Index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19400" y="5936040"/>
            <a:ext cx="40352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a population type of ‘full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33400" y="1488960"/>
            <a:ext cx="7043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fine the Index Subscri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6360" y="1643040"/>
            <a:ext cx="7151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fine the Index Row 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60680" y="5987160"/>
            <a:ext cx="53355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ID 1 is based on SSN in subscript level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806400" y="1496880"/>
            <a:ext cx="703908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Save and Compi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8080" y="1467000"/>
            <a:ext cx="86598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a PhoneList Child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15960" y="1481040"/>
            <a:ext cx="5693040" cy="4357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744560" y="5999760"/>
            <a:ext cx="52149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lass will also be per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08120" y="615960"/>
            <a:ext cx="8207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the Parent-Child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2080" y="5428080"/>
            <a:ext cx="8223120" cy="116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s are special types of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naming the property in this class (PatientRef here), you must also specify the inverse side of the relationship (PhoneNumbers h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28720" y="1449360"/>
            <a:ext cx="67150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Add Addition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26880" y="1495440"/>
            <a:ext cx="8261640" cy="4010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62080" y="5659920"/>
            <a:ext cx="82231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defining a phone number, we must also define a property to represent the position within the embedded delimited string (Counter h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287a"/>
              </a:solidFill>
              <a:latin typeface="Arial Narrow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51000" y="1695600"/>
            <a:ext cx="676080" cy="550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35080" y="2501280"/>
            <a:ext cx="6723000" cy="89604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6240" y="1482480"/>
            <a:ext cx="6723000" cy="9450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orage Strategy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468240"/>
            <a:ext cx="6723000" cy="8960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QL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9760" y="4425840"/>
            <a:ext cx="6723000" cy="945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ustom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5080" y="5435280"/>
            <a:ext cx="6723000" cy="8960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QLStorag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06360" y="2611440"/>
            <a:ext cx="6764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hoose a Unique Ident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87360" y="1468440"/>
            <a:ext cx="8224920" cy="4433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820880" y="6014160"/>
            <a:ext cx="5408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identifier will be based on 1 field: 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clare an ID / Primary Ke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20" y="5359320"/>
            <a:ext cx="7513560" cy="114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this index on the Counter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modify the index co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tientRef property is implicitly part of the IDKey / Primar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406520" y="1595520"/>
            <a:ext cx="55609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a Storag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630440" y="1595520"/>
            <a:ext cx="56084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a Data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70040" y="1476360"/>
            <a:ext cx="7057800" cy="42814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409840" y="5936040"/>
            <a:ext cx="36129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names cannot have sp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fine the Global Subscri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520" y="5258160"/>
            <a:ext cx="8629560" cy="132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level 1 is based on Training.Patient.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level 2 is based on the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delimiter, using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level 3 is based on the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delimiter, using Counter for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44480" y="1438200"/>
            <a:ext cx="74408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fine the Row 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57080" y="1463760"/>
            <a:ext cx="7272360" cy="39812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36520" y="5553720"/>
            <a:ext cx="8629560" cy="86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ID 1 is based on Training.Patient.SSN in subscript leve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ID 2 is based on Counter in subscript lev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fine the Property Mapp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4960" y="5898240"/>
            <a:ext cx="73087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, you can enter HomePhone with no additional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947880" y="1488960"/>
            <a:ext cx="700884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Save and Compi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33280" y="1504800"/>
            <a:ext cx="87012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a Visit Child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5999760"/>
            <a:ext cx="52149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lass will also be per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57480" y="1506600"/>
            <a:ext cx="6162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08120" y="615960"/>
            <a:ext cx="8207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the Parent-Child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080" y="5659920"/>
            <a:ext cx="82231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naming the property in this class (PatientRef here), you must also specify the inverse side of the relationship (Visits h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022400" y="1506600"/>
            <a:ext cx="683568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87400" y="3060720"/>
            <a:ext cx="5192640" cy="78912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acheStorage Overview</a:t>
            </a:r>
            <a:endParaRPr b="1" lang="en-US" sz="4400" spc="-1" strike="noStrike">
              <a:solidFill>
                <a:srgbClr val="00287a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2560680" y="1787400"/>
            <a:ext cx="1874880" cy="68112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76960" y="3170160"/>
            <a:ext cx="22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3e42"/>
                </a:solidFill>
                <a:latin typeface="Arial Narrow"/>
              </a:rPr>
              <a:t>Object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02080" y="1832040"/>
            <a:ext cx="1782720" cy="5889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47880" y="3114720"/>
            <a:ext cx="1663560" cy="6588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%Load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54280" y="3121200"/>
            <a:ext cx="1663560" cy="658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%Save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62480" y="3114720"/>
            <a:ext cx="1663560" cy="6588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%Delete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87400" y="4140360"/>
            <a:ext cx="5192640" cy="78876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47880" y="4206960"/>
            <a:ext cx="1663560" cy="6588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bject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54280" y="4200480"/>
            <a:ext cx="1663560" cy="662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bject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62480" y="4206960"/>
            <a:ext cx="1663560" cy="6588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bject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6880" y="4060800"/>
            <a:ext cx="235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3e42"/>
                </a:solidFill>
                <a:latin typeface="Arial Narrow"/>
              </a:rPr>
              <a:t>Objec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4" idx="2"/>
            <a:endCxn id="105" idx="0"/>
          </p:cNvCxnSpPr>
          <p:nvPr/>
        </p:nvCxnSpPr>
        <p:spPr>
          <a:xfrm rot="5400000">
            <a:off x="2289240" y="1910160"/>
            <a:ext cx="694440" cy="1715400"/>
          </a:xfrm>
          <a:prstGeom prst="bentConnector3">
            <a:avLst>
              <a:gd name="adj1" fmla="val 4984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4" idx="2"/>
            <a:endCxn id="107" idx="0"/>
          </p:cNvCxnSpPr>
          <p:nvPr/>
        </p:nvCxnSpPr>
        <p:spPr>
          <a:xfrm flipH="1" rot="16200000">
            <a:off x="3996360" y="1917360"/>
            <a:ext cx="694440" cy="1701000"/>
          </a:xfrm>
          <a:prstGeom prst="bentConnector3">
            <a:avLst>
              <a:gd name="adj1" fmla="val 4984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5" idx="2"/>
            <a:endCxn id="109" idx="0"/>
          </p:cNvCxnSpPr>
          <p:nvPr/>
        </p:nvCxnSpPr>
        <p:spPr>
          <a:xfrm>
            <a:off x="1779120" y="3773520"/>
            <a:ext cx="1080" cy="434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6" idx="2"/>
            <a:endCxn id="110" idx="0"/>
          </p:cNvCxnSpPr>
          <p:nvPr/>
        </p:nvCxnSpPr>
        <p:spPr>
          <a:xfrm>
            <a:off x="3485880" y="3780000"/>
            <a:ext cx="1080" cy="421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1" idx="0"/>
          </p:cNvCxnSpPr>
          <p:nvPr/>
        </p:nvCxnSpPr>
        <p:spPr>
          <a:xfrm>
            <a:off x="5194080" y="3773520"/>
            <a:ext cx="1080" cy="434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4" idx="2"/>
            <a:endCxn id="106" idx="0"/>
          </p:cNvCxnSpPr>
          <p:nvPr/>
        </p:nvCxnSpPr>
        <p:spPr>
          <a:xfrm flipH="1">
            <a:off x="3485880" y="2420640"/>
            <a:ext cx="8640" cy="7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2552760" y="5622840"/>
            <a:ext cx="1874880" cy="68112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3800" y="5680080"/>
            <a:ext cx="1783080" cy="58896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lob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09" idx="2"/>
            <a:endCxn id="120" idx="0"/>
          </p:cNvCxnSpPr>
          <p:nvPr/>
        </p:nvCxnSpPr>
        <p:spPr>
          <a:xfrm flipH="1" rot="16200000">
            <a:off x="2224800" y="4419360"/>
            <a:ext cx="815040" cy="1707480"/>
          </a:xfrm>
          <a:prstGeom prst="bentConnector3">
            <a:avLst>
              <a:gd name="adj1" fmla="val 4988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1" idx="2"/>
            <a:endCxn id="120" idx="0"/>
          </p:cNvCxnSpPr>
          <p:nvPr/>
        </p:nvCxnSpPr>
        <p:spPr>
          <a:xfrm rot="5400000">
            <a:off x="3932280" y="4418640"/>
            <a:ext cx="815040" cy="1708920"/>
          </a:xfrm>
          <a:prstGeom prst="bentConnector3">
            <a:avLst>
              <a:gd name="adj1" fmla="val 4988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0" idx="2"/>
            <a:endCxn id="120" idx="0"/>
          </p:cNvCxnSpPr>
          <p:nvPr/>
        </p:nvCxnSpPr>
        <p:spPr>
          <a:xfrm>
            <a:off x="3485880" y="4862160"/>
            <a:ext cx="1080" cy="81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Add Addition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79440" y="1459080"/>
            <a:ext cx="78408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hoose a Unique Ident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42800" y="1446120"/>
            <a:ext cx="8082000" cy="4119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62080" y="5812200"/>
            <a:ext cx="8223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time, our identifier will be based on 2 fields:  VisitDate and Visit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clare an ID / Primary Ke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2520" y="5359320"/>
            <a:ext cx="7513560" cy="114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this index on the VisitDate and VisitTime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modify the index co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tientRef property is implicitly part of the IDKey / Primar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406520" y="1595520"/>
            <a:ext cx="55609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a Storag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592280" y="1494000"/>
            <a:ext cx="589752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reate a Data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70040" y="1476360"/>
            <a:ext cx="7057800" cy="42814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409840" y="5936040"/>
            <a:ext cx="36129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names cannot have sp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fine the Global Subscri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6520" y="5210280"/>
            <a:ext cx="8629560" cy="142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level 1 is based on Training.Patient.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level 2 is a string literal:  “Visi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level 3 is based on Visit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level 4 is based on Visit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82640" y="1450800"/>
            <a:ext cx="747720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fine the Row 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6520" y="5457960"/>
            <a:ext cx="8629560" cy="105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ID 1 is based on Training.Patient.SSN in subscript leve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ID 2 is based on VisitDate in subscript lev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ID 3 is based on VisitTime in subscript level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17400" y="1438200"/>
            <a:ext cx="78962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Define the Property Mapp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76440" y="1546200"/>
            <a:ext cx="74149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36720" y="61596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Save and Compi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11240" y="1457280"/>
            <a:ext cx="88297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Mapping Existing Globals to Objects and SQL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5302440"/>
            <a:ext cx="6400800" cy="10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ike LaRocc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terSystems Corporatio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6000" y="1736280"/>
            <a:ext cx="8665920" cy="33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eStorage generates list-based glob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que identifier (IDKey / PrimaryKey) can be automatically generated or supplied by th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fluences what the global subscripts look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st-based data can be re-or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fluences what the global values look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36720" y="43812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acheStorage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287a"/>
              </a:solidFill>
              <a:latin typeface="Arial Narrow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3520" y="1724040"/>
            <a:ext cx="676440" cy="550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9760" y="2703600"/>
            <a:ext cx="676080" cy="55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35080" y="2501280"/>
            <a:ext cx="6723000" cy="89604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6240" y="1482480"/>
            <a:ext cx="6723000" cy="9450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ffffff"/>
              </a:gs>
              <a:gs pos="100000">
                <a:srgbClr val="9933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orage Strategy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6240" y="3468240"/>
            <a:ext cx="6723000" cy="8960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QL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39760" y="4425840"/>
            <a:ext cx="6723000" cy="945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ustom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35080" y="5435280"/>
            <a:ext cx="6723000" cy="8960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cheSQLStorag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2360" y="3708360"/>
            <a:ext cx="6764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87400" y="3060720"/>
            <a:ext cx="5192640" cy="78912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87a"/>
                </a:solidFill>
                <a:latin typeface="Arial Narrow"/>
              </a:rPr>
              <a:t>CacheSQLStorage Overview</a:t>
            </a:r>
            <a:endParaRPr b="1" lang="en-US" sz="4400" spc="-1" strike="noStrike">
              <a:solidFill>
                <a:srgbClr val="00287a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2560680" y="1787400"/>
            <a:ext cx="1874880" cy="68112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51400" y="3170160"/>
            <a:ext cx="22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3e42"/>
                </a:solidFill>
                <a:latin typeface="Arial Narrow"/>
              </a:rPr>
              <a:t>Object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02080" y="1832040"/>
            <a:ext cx="1782720" cy="5889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47880" y="3114720"/>
            <a:ext cx="1663560" cy="6588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%Load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54280" y="3121200"/>
            <a:ext cx="1663560" cy="658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%Save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62480" y="3114720"/>
            <a:ext cx="1663560" cy="6588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%Delete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7400" y="4140360"/>
            <a:ext cx="5192640" cy="78876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47880" y="4206960"/>
            <a:ext cx="1663560" cy="6588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54280" y="4200480"/>
            <a:ext cx="1663560" cy="662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SERT /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62480" y="4206960"/>
            <a:ext cx="1663560" cy="6588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6880" y="4060800"/>
            <a:ext cx="235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3e42"/>
                </a:solidFill>
                <a:latin typeface="Arial Narrow"/>
              </a:rPr>
              <a:t>SQ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9" idx="2"/>
            <a:endCxn id="140" idx="0"/>
          </p:cNvCxnSpPr>
          <p:nvPr/>
        </p:nvCxnSpPr>
        <p:spPr>
          <a:xfrm rot="5400000">
            <a:off x="2289240" y="1910160"/>
            <a:ext cx="694440" cy="1715400"/>
          </a:xfrm>
          <a:prstGeom prst="bentConnector3">
            <a:avLst>
              <a:gd name="adj1" fmla="val 4984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2"/>
            <a:endCxn id="142" idx="0"/>
          </p:cNvCxnSpPr>
          <p:nvPr/>
        </p:nvCxnSpPr>
        <p:spPr>
          <a:xfrm flipH="1" rot="16200000">
            <a:off x="3996360" y="1917360"/>
            <a:ext cx="694440" cy="1701000"/>
          </a:xfrm>
          <a:prstGeom prst="bentConnector3">
            <a:avLst>
              <a:gd name="adj1" fmla="val 4984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2"/>
            <a:endCxn id="144" idx="0"/>
          </p:cNvCxnSpPr>
          <p:nvPr/>
        </p:nvCxnSpPr>
        <p:spPr>
          <a:xfrm>
            <a:off x="1779120" y="3773520"/>
            <a:ext cx="1080" cy="434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1" idx="2"/>
            <a:endCxn id="145" idx="0"/>
          </p:cNvCxnSpPr>
          <p:nvPr/>
        </p:nvCxnSpPr>
        <p:spPr>
          <a:xfrm>
            <a:off x="3485880" y="3780000"/>
            <a:ext cx="1080" cy="421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2" idx="2"/>
            <a:endCxn id="146" idx="0"/>
          </p:cNvCxnSpPr>
          <p:nvPr/>
        </p:nvCxnSpPr>
        <p:spPr>
          <a:xfrm>
            <a:off x="5194080" y="3773520"/>
            <a:ext cx="1080" cy="434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9" idx="2"/>
            <a:endCxn id="141" idx="0"/>
          </p:cNvCxnSpPr>
          <p:nvPr/>
        </p:nvCxnSpPr>
        <p:spPr>
          <a:xfrm flipH="1">
            <a:off x="3485880" y="2420640"/>
            <a:ext cx="8640" cy="7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2552760" y="5622840"/>
            <a:ext cx="1874880" cy="68112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3800" y="5680080"/>
            <a:ext cx="1783080" cy="588960"/>
          </a:xfrm>
          <a:prstGeom prst="rect">
            <a:avLst/>
          </a:prstGeom>
          <a:gradFill rotWithShape="0">
            <a:gsLst>
              <a:gs pos="0">
                <a:srgbClr val="008c9a"/>
              </a:gs>
              <a:gs pos="50000">
                <a:srgbClr val="ffffff"/>
              </a:gs>
              <a:gs pos="100000">
                <a:srgbClr val="008c9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228600" bIns="2286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lob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4" idx="2"/>
            <a:endCxn id="155" idx="0"/>
          </p:cNvCxnSpPr>
          <p:nvPr/>
        </p:nvCxnSpPr>
        <p:spPr>
          <a:xfrm flipH="1" rot="16200000">
            <a:off x="2224800" y="4419360"/>
            <a:ext cx="815040" cy="1707480"/>
          </a:xfrm>
          <a:prstGeom prst="bentConnector3">
            <a:avLst>
              <a:gd name="adj1" fmla="val 4988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6" idx="2"/>
            <a:endCxn id="155" idx="0"/>
          </p:cNvCxnSpPr>
          <p:nvPr/>
        </p:nvCxnSpPr>
        <p:spPr>
          <a:xfrm rot="5400000">
            <a:off x="3932280" y="4418640"/>
            <a:ext cx="815040" cy="1708920"/>
          </a:xfrm>
          <a:prstGeom prst="bentConnector3">
            <a:avLst>
              <a:gd name="adj1" fmla="val 4988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5" idx="2"/>
            <a:endCxn id="155" idx="0"/>
          </p:cNvCxnSpPr>
          <p:nvPr/>
        </p:nvCxnSpPr>
        <p:spPr>
          <a:xfrm>
            <a:off x="3485880" y="4862160"/>
            <a:ext cx="1080" cy="818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16:13:45Z</dcterms:created>
  <dc:creator>Michael LaRocca</dc:creator>
  <dc:description/>
  <dc:language>en-US</dc:language>
  <cp:lastModifiedBy>Steven Thompson</cp:lastModifiedBy>
  <dcterms:modified xsi:type="dcterms:W3CDTF">2003-06-19T20:46:01Z</dcterms:modified>
  <cp:revision>362</cp:revision>
  <dc:subject/>
  <dc:title>Microsoft .NET and Cache'</dc:title>
</cp:coreProperties>
</file>